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229600" cy="4572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890C-F407-4D52-AEF9-BA597BB2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1120" y="182160"/>
            <a:ext cx="740736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1120" y="1068480"/>
            <a:ext cx="7407360" cy="1438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1120" y="2644200"/>
            <a:ext cx="7407360" cy="1438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573F-5AC8-42A3-A5E9-EFF30CD8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1120" y="182160"/>
            <a:ext cx="740736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1120" y="1068480"/>
            <a:ext cx="3614760" cy="1438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06960" y="1068480"/>
            <a:ext cx="3614760" cy="1438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1120" y="2644200"/>
            <a:ext cx="3614760" cy="1438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06960" y="2644200"/>
            <a:ext cx="3614760" cy="1438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528E-8017-45B5-82FE-6861DC77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1120" y="182160"/>
            <a:ext cx="740736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1120" y="1068480"/>
            <a:ext cx="2385000" cy="1438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15640" y="1068480"/>
            <a:ext cx="2385000" cy="1438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20520" y="1068480"/>
            <a:ext cx="2385000" cy="1438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1120" y="2644200"/>
            <a:ext cx="2385000" cy="1438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15640" y="2644200"/>
            <a:ext cx="2385000" cy="1438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20520" y="2644200"/>
            <a:ext cx="2385000" cy="1438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BB81-1A08-4AD2-AB06-46391292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1120" y="182160"/>
            <a:ext cx="740736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1120" y="1068480"/>
            <a:ext cx="740736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65DB-FA9A-40ED-B8F9-3F790116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1120" y="182160"/>
            <a:ext cx="740736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1120" y="1068480"/>
            <a:ext cx="7407360" cy="30160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F24-FFFA-4205-997F-BA645970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1120" y="182160"/>
            <a:ext cx="740736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1120" y="1068480"/>
            <a:ext cx="3614760" cy="30160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06960" y="1068480"/>
            <a:ext cx="3614760" cy="30160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5A4E-6329-4787-839D-169B4854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1120" y="182160"/>
            <a:ext cx="740736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384F-5145-4521-97DE-0E8F9533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1120" y="182160"/>
            <a:ext cx="7407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0BD9-EB69-4D6D-90AF-E2EF3127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1120" y="182160"/>
            <a:ext cx="740736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1120" y="1068480"/>
            <a:ext cx="3614760" cy="1438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06960" y="1068480"/>
            <a:ext cx="3614760" cy="30160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1120" y="2644200"/>
            <a:ext cx="3614760" cy="1438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872B-B8A8-4C77-8D34-D21B3112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1120" y="182160"/>
            <a:ext cx="740736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1120" y="1068480"/>
            <a:ext cx="3614760" cy="30160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06960" y="1068480"/>
            <a:ext cx="3614760" cy="1438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06960" y="2644200"/>
            <a:ext cx="3614760" cy="1438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40CE-B340-4D98-9C5B-39C16741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1120" y="182160"/>
            <a:ext cx="740736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1120" y="1068480"/>
            <a:ext cx="3614760" cy="1438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06960" y="1068480"/>
            <a:ext cx="3614760" cy="1438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1120" y="2644200"/>
            <a:ext cx="7407360" cy="1438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38D9-A23E-4B5F-8338-6C1AB96D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1120" y="182160"/>
            <a:ext cx="740736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1120" y="1068480"/>
            <a:ext cx="7407360" cy="30160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 fontScale="89000"/>
          </a:bodyPr>
          <a:p>
            <a:pPr marL="244440" indent="-24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8120" indent="-2034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13600" indent="-162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38680" indent="-1623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4840" indent="-1623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4840" indent="-1623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4840" indent="-1623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1120" y="4164120"/>
            <a:ext cx="1920960" cy="3175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Autofit/>
          </a:bodyPr>
          <a:lstStyle>
            <a:lvl1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1600" y="4164120"/>
            <a:ext cx="2606400" cy="3175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Autofit/>
          </a:bodyPr>
          <a:lstStyle>
            <a:lvl1pPr indent="0" algn="ct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97520" y="4164120"/>
            <a:ext cx="1920960" cy="3175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Autofit/>
          </a:bodyPr>
          <a:lstStyle>
            <a:lvl1pPr indent="0" algn="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fld id="{AA51E9B9-DBBE-469C-96E7-767AFC1C2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847800"/>
            <a:ext cx="693396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819600"/>
            <a:ext cx="693396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3080" y="3819600"/>
            <a:ext cx="7467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181160" y="542880"/>
            <a:ext cx="0" cy="327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43520" y="3784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25040" y="237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2752560"/>
            <a:ext cx="693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2705400" y="1218600"/>
            <a:ext cx="6705720" cy="215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10" y="136"/>
                </a:moveTo>
                <a:arcTo wR="10800" hR="10800" stAng="-4853247" swAng="6368191"/>
                <a:lnTo>
                  <a:pt x="10800" y="10800"/>
                </a:lnTo>
                <a:close/>
              </a:path>
              <a:path fill="none" w="21600" h="21600">
                <a:moveTo>
                  <a:pt x="12510" y="136"/>
                </a:moveTo>
                <a:arcTo wR="10800" hR="10800" stAng="-4853247" swAng="6368191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rot="10800000">
            <a:off x="-2581560" y="2415960"/>
            <a:ext cx="6260760" cy="140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4" y="229"/>
                </a:moveTo>
                <a:arcTo wR="10800" hR="10800" stAng="-4690163" swAng="4690163"/>
                <a:lnTo>
                  <a:pt x="10800" y="10800"/>
                </a:lnTo>
                <a:close/>
              </a:path>
              <a:path fill="none" w="21600" h="21600">
                <a:moveTo>
                  <a:pt x="13014" y="229"/>
                </a:moveTo>
                <a:arcTo wR="10800" hR="10800" stAng="-4690163" swAng="4690163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9920" y="2752560"/>
            <a:ext cx="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6680" y="15858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bricated flu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9400" y="2817720"/>
            <a:ext cx="29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co-plastic lubricating flu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78480" y="248616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09520" y="18637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05:15:31Z</dcterms:created>
  <dc:creator> Ian Frigaard</dc:creator>
  <dc:description/>
  <dc:language>en-US</dc:language>
  <cp:lastModifiedBy>Ian Frigaard</cp:lastModifiedBy>
  <dcterms:modified xsi:type="dcterms:W3CDTF">2009-12-04T02:14:23Z</dcterms:modified>
  <cp:revision>3</cp:revision>
  <dc:subject/>
  <dc:title>Slide 1</dc:title>
</cp:coreProperties>
</file>