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109325" cy="9144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9D19-AFA3-44C9-931D-6D4A6B88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55120" y="365040"/>
            <a:ext cx="9999720" cy="1524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55120" y="2136240"/>
            <a:ext cx="9999720" cy="287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5120" y="5287320"/>
            <a:ext cx="9999720" cy="287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70D6-D64E-4708-A933-CE8E3A0D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55120" y="365040"/>
            <a:ext cx="9999720" cy="1524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55120" y="2136240"/>
            <a:ext cx="4879800" cy="287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79360" y="2136240"/>
            <a:ext cx="4879800" cy="287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55120" y="5287320"/>
            <a:ext cx="4879800" cy="287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79360" y="5287320"/>
            <a:ext cx="4879800" cy="287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2A45-4E8D-4432-BE6D-188D3F7C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55120" y="365040"/>
            <a:ext cx="9999720" cy="1524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5120" y="2136240"/>
            <a:ext cx="3219840" cy="287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36240" y="2136240"/>
            <a:ext cx="3219840" cy="287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17720" y="2136240"/>
            <a:ext cx="3219840" cy="287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5120" y="5287320"/>
            <a:ext cx="3219840" cy="287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36240" y="5287320"/>
            <a:ext cx="3219840" cy="287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17720" y="5287320"/>
            <a:ext cx="3219840" cy="287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36F2-2D3B-4867-94C7-7F1C41AC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55120" y="365040"/>
            <a:ext cx="9999720" cy="1524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55120" y="2136240"/>
            <a:ext cx="999972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0AFD-56D9-4248-BC66-F100FFAF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5120" y="365040"/>
            <a:ext cx="9999720" cy="1524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5120" y="2136240"/>
            <a:ext cx="9999720" cy="60325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1913-6302-4FFB-AB4D-69AE987C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5120" y="365040"/>
            <a:ext cx="9999720" cy="1524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55120" y="2136240"/>
            <a:ext cx="4879800" cy="60325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79360" y="2136240"/>
            <a:ext cx="4879800" cy="60325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4A8A-34E7-4082-BA4D-AB10EF1F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55120" y="365040"/>
            <a:ext cx="9999720" cy="1524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6D42-2DC1-4DC2-8017-692211FF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55120" y="365040"/>
            <a:ext cx="99997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1C80-8A1D-4085-8969-C64B4395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5120" y="365040"/>
            <a:ext cx="9999720" cy="1524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5120" y="2136240"/>
            <a:ext cx="4879800" cy="287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79360" y="2136240"/>
            <a:ext cx="4879800" cy="60325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55120" y="5287320"/>
            <a:ext cx="4879800" cy="287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7E7E-B5B5-4C1F-B9BD-84E86022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5120" y="365040"/>
            <a:ext cx="9999720" cy="1524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55120" y="2136240"/>
            <a:ext cx="4879800" cy="60325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79360" y="2136240"/>
            <a:ext cx="4879800" cy="287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79360" y="5287320"/>
            <a:ext cx="4879800" cy="287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F0BE-5D44-4C56-B046-265B130D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55120" y="365040"/>
            <a:ext cx="9999720" cy="1524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55120" y="2136240"/>
            <a:ext cx="4879800" cy="287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79360" y="2136240"/>
            <a:ext cx="4879800" cy="287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5120" y="5287320"/>
            <a:ext cx="9999720" cy="287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E36A-7D49-4746-87A6-0CD39942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5120" y="365040"/>
            <a:ext cx="9999720" cy="1524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55120" y="2136240"/>
            <a:ext cx="9999720" cy="60325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4680" indent="-274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9364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182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46280" indent="-1825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646280" indent="-1825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646280" indent="-1825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5120" y="8327880"/>
            <a:ext cx="2592360" cy="6350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Autofit/>
          </a:bodyPr>
          <a:lstStyle>
            <a:lvl1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95840" y="8327880"/>
            <a:ext cx="3519360" cy="6350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Autofit/>
          </a:bodyPr>
          <a:lstStyle>
            <a:lvl1pPr indent="0" algn="ctr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480" y="8327880"/>
            <a:ext cx="2592360" cy="6350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Autofit/>
          </a:bodyPr>
          <a:lstStyle>
            <a:lvl1pPr indent="0" algn="r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fld id="{69403C5D-DB16-4727-B111-1EABA442B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08320" y="1008000"/>
            <a:ext cx="8405640" cy="10940040"/>
            <a:chOff x="1408320" y="1008000"/>
            <a:chExt cx="8405640" cy="10940040"/>
          </a:xfrm>
        </p:grpSpPr>
        <p:grpSp>
          <p:nvGrpSpPr>
            <p:cNvPr id="42" name=""/>
            <p:cNvGrpSpPr/>
            <p:nvPr/>
          </p:nvGrpSpPr>
          <p:grpSpPr>
            <a:xfrm>
              <a:off x="5786280" y="4868640"/>
              <a:ext cx="4027680" cy="6945120"/>
              <a:chOff x="5786280" y="4868640"/>
              <a:chExt cx="4027680" cy="6945120"/>
            </a:xfrm>
          </p:grpSpPr>
          <p:sp>
            <p:nvSpPr>
              <p:cNvPr id="43" name=""/>
              <p:cNvSpPr/>
              <p:nvPr/>
            </p:nvSpPr>
            <p:spPr>
              <a:xfrm flipH="1" flipV="1">
                <a:off x="8556480" y="4979160"/>
                <a:ext cx="12960" cy="308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flipH="1" rot="5400000">
                <a:off x="6543000" y="7175880"/>
                <a:ext cx="3324600" cy="2317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510" y="136"/>
                    </a:moveTo>
                    <a:arcTo wR="10800" hR="10800" stAng="-4853247" swAng="37722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510" y="136"/>
                    </a:moveTo>
                    <a:arcTo wR="10800" hR="10800" stAng="-4853247" swAng="377221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6200000">
                <a:off x="4120920" y="7927920"/>
                <a:ext cx="6260760" cy="1510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014" y="229"/>
                    </a:moveTo>
                    <a:arcTo wR="10800" hR="10800" stAng="-4690163" swAng="46901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014" y="229"/>
                    </a:moveTo>
                    <a:arcTo wR="10800" hR="10800" stAng="-4690163" swAng="469016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731880"/>
                    <a:tab algn="l" pos="1463760"/>
                    <a:tab algn="l" pos="2195640"/>
                    <a:tab algn="l" pos="2927520"/>
                    <a:tab algn="l" pos="3659040"/>
                    <a:tab algn="l" pos="4390920"/>
                    <a:tab algn="l" pos="5122800"/>
                    <a:tab algn="l" pos="5854680"/>
                    <a:tab algn="l" pos="6586560"/>
                    <a:tab algn="l" pos="7318440"/>
                    <a:tab algn="l" pos="8050320"/>
                    <a:tab algn="l" pos="8782200"/>
                    <a:tab algn="l" pos="9513720"/>
                    <a:tab algn="l" pos="102456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>
                <a:off x="7243560" y="5551200"/>
                <a:ext cx="7509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932680" y="8078400"/>
                <a:ext cx="67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=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779960" y="486864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U(y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173640" y="8084880"/>
                <a:ext cx="77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=-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rot="5400000">
                <a:off x="4871520" y="7981200"/>
                <a:ext cx="6260760" cy="1402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26" y="2271"/>
                    </a:moveTo>
                    <a:arcTo wR="10800" hR="10800" stAng="-3129462" swAng="31294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26" y="2271"/>
                    </a:moveTo>
                    <a:arcTo wR="10800" hR="10800" stAng="-3129462" swAng="3129462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r">
                  <a:tabLst>
                    <a:tab algn="l" pos="0"/>
                    <a:tab algn="l" pos="731880"/>
                    <a:tab algn="l" pos="1463760"/>
                    <a:tab algn="l" pos="2195640"/>
                    <a:tab algn="l" pos="2927520"/>
                    <a:tab algn="l" pos="3659040"/>
                    <a:tab algn="l" pos="4390920"/>
                    <a:tab algn="l" pos="5122800"/>
                    <a:tab algn="l" pos="5854680"/>
                    <a:tab algn="l" pos="6586560"/>
                    <a:tab algn="l" pos="7318440"/>
                    <a:tab algn="l" pos="8050320"/>
                    <a:tab algn="l" pos="8782200"/>
                    <a:tab algn="l" pos="9513720"/>
                    <a:tab algn="l" pos="102456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86280" y="764028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1880"/>
                    <a:tab algn="l" pos="1463760"/>
                    <a:tab algn="l" pos="2195640"/>
                    <a:tab algn="l" pos="2927520"/>
                    <a:tab algn="l" pos="3659040"/>
                    <a:tab algn="l" pos="4390920"/>
                    <a:tab algn="l" pos="5122800"/>
                    <a:tab algn="l" pos="5854680"/>
                    <a:tab algn="l" pos="6586560"/>
                    <a:tab algn="l" pos="7318440"/>
                    <a:tab algn="l" pos="8050320"/>
                    <a:tab algn="l" pos="8782200"/>
                    <a:tab algn="l" pos="9513720"/>
                    <a:tab algn="l" pos="102456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d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11880" y="8062560"/>
                <a:ext cx="350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296040" y="5114520"/>
                <a:ext cx="209520" cy="2933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353520" y="5114520"/>
                <a:ext cx="209520" cy="2933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792760" y="1008000"/>
              <a:ext cx="4021200" cy="7115400"/>
              <a:chOff x="5792760" y="1008000"/>
              <a:chExt cx="4021200" cy="7115400"/>
            </a:xfrm>
          </p:grpSpPr>
          <p:sp>
            <p:nvSpPr>
              <p:cNvPr id="56" name=""/>
              <p:cNvSpPr/>
              <p:nvPr/>
            </p:nvSpPr>
            <p:spPr>
              <a:xfrm flipH="1" flipV="1">
                <a:off x="7218000" y="1147320"/>
                <a:ext cx="12600" cy="308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400000">
                <a:off x="4905360" y="3736800"/>
                <a:ext cx="6705000" cy="206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510" y="136"/>
                    </a:moveTo>
                    <a:arcTo wR="10800" hR="10800" stAng="-4853247" swAng="97320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510" y="136"/>
                    </a:moveTo>
                    <a:arcTo wR="10800" hR="10800" stAng="-4853247" swAng="9732045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928000" y="4265280"/>
                <a:ext cx="67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=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470280" y="100800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U(y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92760" y="381420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1880"/>
                    <a:tab algn="l" pos="1463760"/>
                    <a:tab algn="l" pos="2195640"/>
                    <a:tab algn="l" pos="2927520"/>
                    <a:tab algn="l" pos="3659040"/>
                    <a:tab algn="l" pos="4390920"/>
                    <a:tab algn="l" pos="5122800"/>
                    <a:tab algn="l" pos="5854680"/>
                    <a:tab algn="l" pos="6586560"/>
                    <a:tab algn="l" pos="7318440"/>
                    <a:tab algn="l" pos="8050320"/>
                    <a:tab algn="l" pos="8782200"/>
                    <a:tab algn="l" pos="9513720"/>
                    <a:tab algn="l" pos="102456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11880" y="4252680"/>
                <a:ext cx="350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107040" y="4274640"/>
                <a:ext cx="77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=-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229440" y="1304640"/>
                <a:ext cx="209520" cy="2933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9286920" y="1304640"/>
                <a:ext cx="209520" cy="2933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408320" y="1027080"/>
              <a:ext cx="4110120" cy="7107120"/>
              <a:chOff x="1408320" y="1027080"/>
              <a:chExt cx="4110120" cy="7107120"/>
            </a:xfrm>
          </p:grpSpPr>
          <p:sp>
            <p:nvSpPr>
              <p:cNvPr id="66" name=""/>
              <p:cNvSpPr/>
              <p:nvPr/>
            </p:nvSpPr>
            <p:spPr>
              <a:xfrm>
                <a:off x="2016360" y="4262400"/>
                <a:ext cx="350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flipV="1">
                <a:off x="3354120" y="1166760"/>
                <a:ext cx="12600" cy="308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2198880" y="1428480"/>
                <a:ext cx="2801520" cy="6705720"/>
                <a:chOff x="2198880" y="1428480"/>
                <a:chExt cx="2801520" cy="6705720"/>
              </a:xfrm>
            </p:grpSpPr>
            <p:sp>
              <p:nvSpPr>
                <p:cNvPr id="69" name=""/>
                <p:cNvSpPr/>
                <p:nvPr/>
              </p:nvSpPr>
              <p:spPr>
                <a:xfrm flipH="1" rot="5400000">
                  <a:off x="489240" y="3623040"/>
                  <a:ext cx="6705720" cy="2316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510" y="136"/>
                      </a:moveTo>
                      <a:arcTo wR="10800" hR="10800" stAng="-4853247" swAng="63681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510" y="136"/>
                      </a:moveTo>
                      <a:arcTo wR="10800" hR="10800" stAng="-4853247" swAng="636819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rot="16200000">
                  <a:off x="-175320" y="4123440"/>
                  <a:ext cx="6260760" cy="151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3014" y="229"/>
                      </a:moveTo>
                      <a:arcTo wR="10800" hR="10800" stAng="-4690163" swAng="46901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3014" y="229"/>
                      </a:moveTo>
                      <a:arcTo wR="10800" hR="10800" stAng="-4690163" swAng="469016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H="1">
                  <a:off x="2941200" y="1748880"/>
                  <a:ext cx="406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" name=""/>
              <p:cNvSpPr/>
              <p:nvPr/>
            </p:nvSpPr>
            <p:spPr>
              <a:xfrm>
                <a:off x="4635360" y="4275000"/>
                <a:ext cx="67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=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606400" y="102708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U(y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08320" y="38239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1880"/>
                    <a:tab algn="l" pos="1463760"/>
                    <a:tab algn="l" pos="2195640"/>
                    <a:tab algn="l" pos="2927520"/>
                    <a:tab algn="l" pos="3659040"/>
                    <a:tab algn="l" pos="4390920"/>
                    <a:tab algn="l" pos="5122800"/>
                    <a:tab algn="l" pos="5854680"/>
                    <a:tab algn="l" pos="6586560"/>
                    <a:tab algn="l" pos="7318440"/>
                    <a:tab algn="l" pos="8050320"/>
                    <a:tab algn="l" pos="8782200"/>
                    <a:tab algn="l" pos="9513720"/>
                    <a:tab algn="l" pos="102456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1800" y="4284360"/>
                <a:ext cx="77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=-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000520" y="1314360"/>
                <a:ext cx="209520" cy="2933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981680" y="1314360"/>
                <a:ext cx="209520" cy="2933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1425600" y="4830480"/>
              <a:ext cx="4092840" cy="7117560"/>
              <a:chOff x="1425600" y="4830480"/>
              <a:chExt cx="4092840" cy="711756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3093840" y="4969800"/>
                <a:ext cx="12600" cy="308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3106800" y="5249160"/>
                <a:ext cx="0" cy="311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379800" y="7328160"/>
                <a:ext cx="6705000" cy="253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510" y="136"/>
                    </a:moveTo>
                    <a:arcTo wR="10800" hR="10800" stAng="-4853247" swAng="66345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510" y="136"/>
                    </a:moveTo>
                    <a:arcTo wR="10800" hR="10800" stAng="-4853247" swAng="663457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6200000">
                <a:off x="331200" y="7395120"/>
                <a:ext cx="6310080" cy="260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014" y="229"/>
                    </a:moveTo>
                    <a:arcTo wR="10800" hR="10800" stAng="-4690163" swAng="36716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014" y="229"/>
                    </a:moveTo>
                    <a:arcTo wR="10800" hR="10800" stAng="-4690163" swAng="367160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632120" y="8088120"/>
                <a:ext cx="67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=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346120" y="483048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U(y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425600" y="76500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1880"/>
                    <a:tab algn="l" pos="1463760"/>
                    <a:tab algn="l" pos="2195640"/>
                    <a:tab algn="l" pos="2927520"/>
                    <a:tab algn="l" pos="3659040"/>
                    <a:tab algn="l" pos="4390920"/>
                    <a:tab algn="l" pos="5122800"/>
                    <a:tab algn="l" pos="5854680"/>
                    <a:tab algn="l" pos="6586560"/>
                    <a:tab algn="l" pos="7318440"/>
                    <a:tab algn="l" pos="8050320"/>
                    <a:tab algn="l" pos="8782200"/>
                    <a:tab algn="l" pos="9513720"/>
                    <a:tab algn="l" pos="102456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016360" y="8072280"/>
                <a:ext cx="350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868400" y="8094600"/>
                <a:ext cx="77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=-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90800" y="5124240"/>
                <a:ext cx="209520" cy="2933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991400" y="5124240"/>
                <a:ext cx="209520" cy="2933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05:15:31Z</dcterms:created>
  <dc:creator> Ian Frigaard</dc:creator>
  <dc:description/>
  <dc:language>en-US</dc:language>
  <cp:lastModifiedBy>Ian Frigaard</cp:lastModifiedBy>
  <dcterms:modified xsi:type="dcterms:W3CDTF">2009-12-04T02:39:14Z</dcterms:modified>
  <cp:revision>4</cp:revision>
  <dc:subject/>
  <dc:title>Slide 1</dc:title>
</cp:coreProperties>
</file>